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A1BE-F67C-46D3-9144-D0A50EB9C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E9F-ED3E-4118-84E2-4E5E5712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282-5FB3-455D-8C33-89FCA3AE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CE61-0BCB-46F8-8520-B71E6A8E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81A-8345-4D54-86FC-70A1B374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343-EAB9-4E2C-9F59-88136FF4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CFE7-9042-4EFC-AB39-89318F28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79F-03AC-4166-9278-0FA6EEE7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61E-6A76-489F-A517-C6956124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409-CBFC-40A7-8505-CC3DCB0D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CAB-49B2-4A96-8654-F5D21425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557-C7BF-4C03-AD2D-76B04F33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7350-6870-4EB5-9965-C64C6599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Nixie Row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 II H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, mache ich 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rinke keine Cola, weil es ungesund 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schwimme dreimal in die Woche weil es gut für meine Her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gegung schlafe weil ich nicht müde b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666880" y="4343400"/>
            <a:ext cx="2590920" cy="1819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477120" y="4495680"/>
            <a:ext cx="1819080" cy="14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inde es schade das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schade dass Ellie raucht so viel!  Rauchen ist sehr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Gesundheit! Es tut der Lunge heweh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3880" y="4343400"/>
            <a:ext cx="2708280" cy="206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24386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inde es gut das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gut dass Sophia keinen Alkohol trinken. Es is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Herz und das Hirn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4495680"/>
            <a:ext cx="1935360" cy="180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57600" y="3429000"/>
            <a:ext cx="178128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629400" y="4495680"/>
            <a:ext cx="19242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ch t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, ich schwimme dreimal in der Woche. Ich mag Schwimmen, weil seine die beste 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6463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ch nicht t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ider, ich mache nicht die Sonne genung vermeiden. Ich vermeide die Sonnie nicht weil ich faul bin. Ich bin zu faul, zu Sonnenschutzmittel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zuwen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1962360" cy="212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8320" y="41911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6:20Z</dcterms:created>
  <dc:creator>CUSD220</dc:creator>
  <dc:description/>
  <dc:language>en-US</dc:language>
  <cp:lastModifiedBy>CUSD220</cp:lastModifiedBy>
  <dcterms:modified xsi:type="dcterms:W3CDTF">2012-02-28T19:19:26Z</dcterms:modified>
  <cp:revision>11</cp:revision>
  <dc:subject/>
  <dc:title>Gesund Leben</dc:title>
</cp:coreProperties>
</file>